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2396-FB1B-47B3-96C9-EF45E1836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57B0-27E0-484C-901F-099BBF8E2F97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3EF4-57F4-48F5-A095-B50F643C195F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2598-FEE0-4C33-B1C0-C1CCD46BAFEE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859-4031-4053-9F74-394B19D2E797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A57-308E-4B1F-A6C9-782D788A9F36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12D-8DC5-457E-B4DC-00D2E3B24244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3FC-0F04-4D4A-8D78-07417894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FBD-CB10-4EEF-B7E3-C61DE6E5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E6404-90F0-4C99-B0DC-7E5F9CB8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9FB92-9281-43AD-B35F-A288B177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B429B-C4D1-41E4-A94F-45CCEEC6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F359D-6B47-4699-90A4-C9C5637D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1DB39-06A9-41AC-8CBC-7ED312F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36B1B-3EC0-4375-949C-E96B93E9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54B52-C38D-4825-BCB4-DEA0A4B3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30AF0-D409-4DF4-B3B5-D308121F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2181D-6C5C-4C3B-BADC-9AFBCB2D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CC302-D0AA-4D77-B398-CCBDC8CD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858-228A-4297-8CE8-5418C4C7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E251F-3CF5-4D1F-BDAA-D9D9C103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0B33-4523-4D3F-948D-FC5AA9A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2A0E7-E3AF-4C58-8B6A-156094AB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2DCEA-F534-4579-9F69-37F2C0A7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D51E5-9E85-4C34-86CC-FF3E6401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CB34D-67A6-44B5-AD01-E387D0E8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895EE-F3EB-48F9-9837-3987A673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39668-F886-49CE-8A73-9FDB30C9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9E8DF-1297-491E-9DE9-916DDE15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98DAC-9E70-4032-A7C1-DC8CB2E9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D75-EC6A-420E-B4EC-D74AD555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8D479-DEBC-4D87-983E-D8919031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6DA76-471F-46B6-BF2B-15497ECC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8941A-2411-4DED-872A-7248ED5B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05CE3-0C52-487E-8803-BB167C5D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98FBB-C827-4ED1-B8FA-6A9EAA74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CFC26-A249-474E-8175-D1D59CAB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C743C-3FAA-4527-AC32-ACB599DE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008BD-6716-4070-A854-77795294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BEE5A-5097-400E-B059-653B11FB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3CC9D-6196-48E2-9973-C18E8CC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BB95-0341-4A74-B984-078EE7F5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7F3CB-ABC1-4E7E-8568-707DC39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3D5C5-590F-4EBF-A996-C14B8A66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6A83-414B-4306-96AF-A8AEE10A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C696A-A743-423B-BF08-A18115CB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E0B74-CE60-4D0B-9D94-FE958876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12A33-16C2-4814-923D-C7DB14D4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305D9-383E-4B4C-88D8-2795FE05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458BF-7BFE-4E8D-8863-042823D1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C6B76-CA30-4181-B1D6-8AD4BA9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0469A-B90A-4DBB-8083-C4A3D00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8723-E106-4739-9B9E-B407DB5B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2657A-576D-45A7-8D1D-BD8A2AAE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96960-624C-4EDD-8F6E-C2BF7055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93902-E6EA-4047-B9F7-E2B7F679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E74E3-04BB-4BC6-BDDC-453FA84B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1A024-AA88-4AF3-89AB-34EDFEAB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23E7E-679E-484E-BD6A-D07E66E3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B0DD6-34FE-4633-9025-48B5BFE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734BB-C64A-4CC0-A595-AD19B9AA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18FD4-6529-495A-9217-7150415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99EB9-A19B-4792-921A-C5246599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1594-831F-4A80-A858-245CAD99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BE713-8732-47EE-80EE-90CBAD1B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39C95-8AE4-40B9-A2FA-B05939E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6FF5E-0697-431C-AF8B-5BC36B6F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68F65-2F8A-4993-B01D-4A009E8E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E5C57-AFF8-4174-8E58-F8042731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5E0C0-B516-418E-9E07-4A3D401D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0C6A4-F408-41EE-B1F1-EDC9C836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BB109-0D94-4DA2-87F2-D056AC27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91730-5CCD-4A0D-A5A0-4F42856F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A2CB7-8767-44FB-BED8-5C9B6A7C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160-0FEA-40D4-A535-BA3F4644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7A19C-9310-414F-9754-6B5D6B6D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39FC8-7470-4A33-9425-850E6B4D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88921-BA0C-438D-8901-4C7DEC01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1A461-B6AA-437D-AFA3-DC7EAC9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D74BD-FBD5-46DA-9722-6D1EB1F4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2A60A-0A08-4AF4-B842-A29E5D6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A51F7-C1AE-4DD8-98F1-778A5476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8E566-CAC7-4E07-955F-B5BA4DFB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700A3-44BC-4BD7-A981-37C02B1C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B76-D57B-4491-A9BA-975A6655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0AA0-1B01-496D-9136-EEA218BA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3C5E-72DA-4940-97A3-3CE16ED3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95E-FA22-4BE6-8958-291CD13E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EC4E-8C1D-4B96-A9B6-EB7ADF92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E542-EB12-4B83-8D09-DAEB905A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123F-5D62-4D99-8704-C9FA8441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5FC6-7284-4140-8B89-D7FED735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FF16-D294-48FB-ADF4-B28B08CE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93F9-C1D9-455A-9D78-867EA5FC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25A8-2807-4D9F-A878-0035DF38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BB40-6504-4005-8FF5-C35C9A6B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65D2-99AE-4913-B61E-740D5A8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367B-9FEB-43EF-9AE0-13CF9C4D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30D-D175-48CB-AF3E-77661F54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EA04-E0A6-4DB4-BD9D-4FFF3EC9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5F23-62E8-4236-B310-173237C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B4DC-C75D-4879-A194-FE3FCBB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061E-ED99-43F3-A788-3E7541B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4C19-4F12-44B5-96CD-88C234F4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4569-D128-4CD8-93F2-47DC1AFF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E397-C463-4288-B07F-E03669FE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F9F6-C6F3-49BA-AD57-E31D9272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FC8B-5D50-4899-96F8-2E1F09C9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FF52-B9DE-4E83-81FF-1E7337DC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C24-5A1A-4A92-A97F-9B5A9579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24BE-CACF-4A36-9677-7C50ADEA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29FB-3586-41EA-A8DB-8A2CEE32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379D-6A28-4455-8759-D2D5065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0950-D9C9-41E5-A133-EC2306A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9AC0-7706-4F3A-9B8F-362F115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8DBB-133E-4977-9665-BFE4B6FC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C0F4-5A74-4DD1-BD10-EA08C758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EA25-C545-4549-B9EC-F84D34FA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4FA5-7FF4-4733-82ED-A1CAF8B2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1C86-1DAE-4F61-982D-58829FAC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97D-C48F-4067-BEA9-7B332FC0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5665-0ADB-4302-9BCD-DE4E3A6F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8FF01-68CF-467B-AB4D-0C351116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54C39-E0F3-4E40-B9EA-C4188B5A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EBEA-D48C-4565-8282-C11E043B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59AF-D08B-41E1-A207-EC673D38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7489F-1C1C-4140-9B0F-EB0A7F8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76D53-D498-4F41-A568-BF5B254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5665B-1D1F-44EE-A802-A5DD702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3CAD9-FE5B-4CD2-89F3-82440FFD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BA76-BA6D-4E88-88FF-394AEF24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51A-D8AB-4CCC-B780-3EB2650D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713DF-18ED-4E22-92B5-835CAF0A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51E91-7634-431A-9344-61B6A5B3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1B687-FF71-4142-B66A-46FD70BF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6F042-F6DB-4FB7-BBBB-06962DE3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0A5AE-91B2-430E-A037-9730C168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E4ED0-9C00-4CA9-8CE8-139ACC2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18382-1FBE-435E-92C1-C3BC89B7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28B36-F602-40A1-ABD1-8A570ECA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1F94-494A-45AA-AC85-1A56634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1756E-ECE2-41C7-83C1-73EE702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EBD-388D-49AB-B83A-A96B81BF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87F5-63C2-4B8F-B4CB-C18B2091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2876-FA0A-4934-9C81-61CCA578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18745-C59A-47E6-A438-E09C1292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E2F25-90D8-4D31-826E-CD11BED9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11A4F-C0AA-4137-8D61-0AD413DB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6C180-4AFA-4843-A111-E3AA6BF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48534-4A26-419D-A8DD-05BE9AF7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36238-F3BD-4C0B-9871-6E38F23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99834-D573-4978-A9E3-52C709FA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351C1-1976-444F-9CEF-5ECD701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52E-C62D-4B2C-8BC8-14BF2E5E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3DB2D-7B29-42B4-AB3A-D75CDD9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98934-2971-49A4-B7E0-BD75F668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C910-D03D-468E-9E5C-EAAD77E3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C025A-68E2-47A4-91CE-253379D9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19371-7548-436C-B6B5-77D30D2F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62D4-D7C4-45EA-A7D5-98D66B08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60046-9FD4-4042-8FBC-8478B287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2DA45-4A6F-4D80-9C55-A494417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9D218-BD9B-47F6-87DC-6B3192A5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CD07F-6CC9-4D3A-8F11-944C6791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D37-C1A5-4B2A-85CC-79CC12F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F6181-00E8-4C1C-850F-3A72D591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A6C0-76C2-4A13-A467-1737140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845D0-6B7F-4869-BFFF-BFE49483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733EF-058E-4544-9975-F86EF55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D80B0-423D-4D36-B5A1-4CC666DC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4B8E-84A2-44BF-B388-D1DB7D35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D4330-1CC4-4E77-8703-FE03112B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776C2-A6E3-4FEC-AE65-4333D627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07A24-FD18-47D6-92C9-EEF369D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62B84-3A52-4689-A7FE-0D384E66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leaves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858-FDE6-4E5E-A701-1FAF06DC8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907-C2D0-4E0F-ADFC-4AF5BA2A1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1C3-E12E-407E-BE1D-01A86CDEF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4F10-5E34-4113-82B0-97FC26321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6DDF-0557-4F5B-BBA3-EE37624F0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9AE1-B3CD-4FD5-8114-44A10B2362CF}" type="slidenum"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7" descr="leaves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F1C-4AE4-4A70-A774-EDA63E62B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22B1-AD09-46B0-8A37-9B2547DA3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1731-46EF-4417-A138-E7CCFE9CE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AAE1-B6C2-428C-8F8F-279080982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5DFE-9EF1-4938-8745-3C67B7187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8DED-6D24-4838-B0A2-0EA581C61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F3CE-4379-4BBC-8741-9AD259A9A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008C-2095-400C-BD78-1B09D4996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586" name="Group 1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587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88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89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90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591" name="Text Box 60"/>
          <p:cNvSpPr/>
          <p:nvPr/>
        </p:nvSpPr>
        <p:spPr>
          <a:xfrm>
            <a:off x="-162000" y="2085840"/>
            <a:ext cx="9468000" cy="14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dfff4"/>
                </a:solidFill>
                <a:latin typeface="Calibri"/>
              </a:rPr>
              <a:t>Missoula County Public Schools</a:t>
            </a:r>
            <a:endParaRPr b="0" lang="en-US" sz="5200" spc="-1" strike="noStrike">
              <a:solidFill>
                <a:srgbClr val="b2b2b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ff4"/>
                </a:solidFill>
                <a:latin typeface="Calibri"/>
              </a:rPr>
              <a:t>HERE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586320" y="4041720"/>
            <a:ext cx="1971360" cy="236052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8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594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95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96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97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df7"/>
                </a:solidFill>
                <a:latin typeface="Arial"/>
              </a:rPr>
              <a:t>BULLETS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2fdf7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2fdf7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2fd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2fdf7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10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602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03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04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05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2fdf7"/>
                </a:solidFill>
                <a:latin typeface="Arial"/>
              </a:rPr>
              <a:t>CHAR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graphicFrame>
        <p:nvGraphicFramePr>
          <p:cNvPr id="607" name="Object 3"/>
          <p:cNvGraphicFramePr/>
          <p:nvPr/>
        </p:nvGraphicFramePr>
        <p:xfrm>
          <a:off x="2027160" y="1125360"/>
          <a:ext cx="6062760" cy="37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125360"/>
                    <a:ext cx="606276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9" name="Picture 2" descr=""/>
          <p:cNvPicPr/>
          <p:nvPr/>
        </p:nvPicPr>
        <p:blipFill>
          <a:blip r:embed="rId3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11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611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12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13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14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2fdf7"/>
                </a:solidFill>
                <a:latin typeface="Arial"/>
              </a:rPr>
              <a:t>PICTURE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616" name="Rectangle 32"/>
          <p:cNvSpPr/>
          <p:nvPr/>
        </p:nvSpPr>
        <p:spPr>
          <a:xfrm rot="2700000">
            <a:off x="8267040" y="800280"/>
            <a:ext cx="457200" cy="1143000"/>
          </a:xfrm>
          <a:prstGeom prst="rect">
            <a:avLst/>
          </a:prstGeom>
          <a:solidFill>
            <a:srgbClr val="49992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7" name="Rectangle 33"/>
          <p:cNvSpPr/>
          <p:nvPr/>
        </p:nvSpPr>
        <p:spPr>
          <a:xfrm rot="2700000">
            <a:off x="799560" y="5677200"/>
            <a:ext cx="457200" cy="1143000"/>
          </a:xfrm>
          <a:prstGeom prst="rect">
            <a:avLst/>
          </a:prstGeom>
          <a:solidFill>
            <a:srgbClr val="49992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8" name="Rectangle 34"/>
          <p:cNvSpPr/>
          <p:nvPr/>
        </p:nvSpPr>
        <p:spPr>
          <a:xfrm flipH="1" rot="18900000">
            <a:off x="8266320" y="5600880"/>
            <a:ext cx="457200" cy="1143000"/>
          </a:xfrm>
          <a:prstGeom prst="rect">
            <a:avLst/>
          </a:prstGeom>
          <a:solidFill>
            <a:srgbClr val="49992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9" name="Rectangle 35"/>
          <p:cNvSpPr/>
          <p:nvPr/>
        </p:nvSpPr>
        <p:spPr>
          <a:xfrm flipH="1" rot="18900000">
            <a:off x="798840" y="846360"/>
            <a:ext cx="457200" cy="1143000"/>
          </a:xfrm>
          <a:prstGeom prst="rect">
            <a:avLst/>
          </a:prstGeom>
          <a:solidFill>
            <a:srgbClr val="49992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10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622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23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24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25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2fdf7"/>
                </a:solidFill>
                <a:latin typeface="Arial"/>
              </a:rPr>
              <a:t>Examples </a:t>
            </a:r>
            <a:br>
              <a:rPr sz="4400"/>
            </a:br>
            <a:r>
              <a:rPr b="0" lang="en-GB" sz="4400" spc="-1" strike="noStrike">
                <a:solidFill>
                  <a:srgbClr val="f2fdf7"/>
                </a:solidFill>
                <a:latin typeface="Arial"/>
              </a:rPr>
              <a:t>of default styles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514600" y="183312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2fdf7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2fdf7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2fdf7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056200" y="4876920"/>
          <a:ext cx="3630600" cy="174924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b2b2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0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2b2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0080">
                        <a:alpha val="50000"/>
                      </a:srgbClr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2b2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f0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2b2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f00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9" name="Rectangle 15"/>
          <p:cNvSpPr/>
          <p:nvPr/>
        </p:nvSpPr>
        <p:spPr>
          <a:xfrm>
            <a:off x="1008000" y="5121360"/>
            <a:ext cx="2232000" cy="1368360"/>
          </a:xfrm>
          <a:prstGeom prst="rect">
            <a:avLst/>
          </a:prstGeom>
          <a:solidFill>
            <a:srgbClr val="49992d">
              <a:alpha val="41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9c947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632" name="Group 9"/>
          <p:cNvGrpSpPr/>
          <p:nvPr/>
        </p:nvGrpSpPr>
        <p:grpSpPr>
          <a:xfrm>
            <a:off x="0" y="-31680"/>
            <a:ext cx="9144000" cy="6921360"/>
            <a:chOff x="0" y="-31680"/>
            <a:chExt cx="9144000" cy="6921360"/>
          </a:xfrm>
        </p:grpSpPr>
        <p:sp>
          <p:nvSpPr>
            <p:cNvPr id="633" name="Rectangle 61"/>
            <p:cNvSpPr/>
            <p:nvPr/>
          </p:nvSpPr>
          <p:spPr>
            <a:xfrm>
              <a:off x="2735640" y="217656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34" name="Rectangle 54"/>
            <p:cNvSpPr/>
            <p:nvPr/>
          </p:nvSpPr>
          <p:spPr>
            <a:xfrm>
              <a:off x="0" y="-3168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35" name="Rectangle 62"/>
            <p:cNvSpPr/>
            <p:nvPr/>
          </p:nvSpPr>
          <p:spPr>
            <a:xfrm>
              <a:off x="0" y="217656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36" name="Rectangle 63"/>
            <p:cNvSpPr/>
            <p:nvPr/>
          </p:nvSpPr>
          <p:spPr>
            <a:xfrm>
              <a:off x="2735640" y="-3168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37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df7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Information Systems Center</cp:lastModifiedBy>
  <dcterms:modified xsi:type="dcterms:W3CDTF">2015-03-26T22:03:24Z</dcterms:modified>
  <cp:revision>68</cp:revision>
  <dc:subject/>
  <dc:title>Leaves Coloured Template</dc:title>
</cp:coreProperties>
</file>